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0.gif" ContentType="image/gif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5A1E5D-5786-4C1B-9928-06977232864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A2D0D8-3B13-42B3-A428-65271271CC6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1A2C37-435D-4659-8E49-07B91208EC0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E8F4-8BA7-444F-8FD6-3955F7FC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DE51-5563-46CA-8AFB-45BC6C17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EA1E-6110-4129-9A39-9ED88E05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BB37-C819-486F-BA88-BFA63C79C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395D-F9F2-4D64-9038-EF5E74E7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4EB8-E3DD-49AF-A908-00DF628C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B36E-22F3-4986-BA27-B6D8FCB5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D78A-E5CC-4E84-9BB0-00E38259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A40E-2202-47CE-A6D2-F88AA07F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FE94-6313-479F-9C9A-5EBC3C5C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3113-0D4F-4DCF-A7E7-6870E6EE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B356-7AED-493E-ADF6-BDD2E359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4FED18-BABF-410B-A901-42032C8003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3" descr="F:\2017秋上册语文\魏雅雪6年级\6.和时间赛跑\备课资料包\备课图片\时间.png"/>
          <p:cNvPicPr/>
          <p:nvPr/>
        </p:nvPicPr>
        <p:blipFill>
          <a:blip r:embed="rId1"/>
          <a:stretch/>
        </p:blipFill>
        <p:spPr>
          <a:xfrm>
            <a:off x="2505240" y="2176560"/>
            <a:ext cx="4346280" cy="326052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组合 13338"/>
          <p:cNvGrpSpPr/>
          <p:nvPr/>
        </p:nvGrpSpPr>
        <p:grpSpPr>
          <a:xfrm>
            <a:off x="2162160" y="905040"/>
            <a:ext cx="5316480" cy="1180800"/>
            <a:chOff x="2162160" y="905040"/>
            <a:chExt cx="5316480" cy="1180800"/>
          </a:xfrm>
        </p:grpSpPr>
        <p:sp>
          <p:nvSpPr>
            <p:cNvPr id="65" name="Text Box 2"/>
            <p:cNvSpPr/>
            <p:nvPr/>
          </p:nvSpPr>
          <p:spPr>
            <a:xfrm>
              <a:off x="3420720" y="1011240"/>
              <a:ext cx="405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和时间赛跑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" name="组合 13337"/>
            <p:cNvGrpSpPr/>
            <p:nvPr/>
          </p:nvGrpSpPr>
          <p:grpSpPr>
            <a:xfrm>
              <a:off x="2162160" y="905040"/>
              <a:ext cx="1180800" cy="1180800"/>
              <a:chOff x="2162160" y="905040"/>
              <a:chExt cx="1180800" cy="1180800"/>
            </a:xfrm>
          </p:grpSpPr>
          <p:sp>
            <p:nvSpPr>
              <p:cNvPr id="67" name="AutoShape 11"/>
              <p:cNvSpPr/>
              <p:nvPr/>
            </p:nvSpPr>
            <p:spPr>
              <a:xfrm>
                <a:off x="216216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文本框 13"/>
              <p:cNvSpPr/>
              <p:nvPr/>
            </p:nvSpPr>
            <p:spPr>
              <a:xfrm>
                <a:off x="2420280" y="98496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6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2"/>
          <p:cNvSpPr/>
          <p:nvPr/>
        </p:nvSpPr>
        <p:spPr>
          <a:xfrm>
            <a:off x="927000" y="1784520"/>
            <a:ext cx="760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时间过得那么飞快，使我小小的心灵里不只是着急，更是悲伤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11"/>
          <p:cNvSpPr/>
          <p:nvPr/>
        </p:nvSpPr>
        <p:spPr>
          <a:xfrm>
            <a:off x="885960" y="4086360"/>
            <a:ext cx="77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时间过得很快， 而且一去不复返，“ 我” 懂得了时间的珍贵， 所以感到“着急”和“悲伤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组合 12"/>
          <p:cNvGrpSpPr/>
          <p:nvPr/>
        </p:nvGrpSpPr>
        <p:grpSpPr>
          <a:xfrm>
            <a:off x="982800" y="3200400"/>
            <a:ext cx="7683480" cy="558720"/>
            <a:chOff x="982800" y="3200400"/>
            <a:chExt cx="7683480" cy="558720"/>
          </a:xfrm>
        </p:grpSpPr>
        <p:sp>
          <p:nvSpPr>
            <p:cNvPr id="120" name="直接连接符 13"/>
            <p:cNvSpPr/>
            <p:nvPr/>
          </p:nvSpPr>
          <p:spPr>
            <a:xfrm>
              <a:off x="982800" y="375912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任意多边形 16"/>
            <p:cNvSpPr/>
            <p:nvPr/>
          </p:nvSpPr>
          <p:spPr>
            <a:xfrm>
              <a:off x="982800" y="3200400"/>
              <a:ext cx="7683480" cy="558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“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我”为什么感到“着急”“悲伤”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文本框 21"/>
          <p:cNvSpPr/>
          <p:nvPr/>
        </p:nvSpPr>
        <p:spPr>
          <a:xfrm>
            <a:off x="831960" y="963720"/>
            <a:ext cx="7569000" cy="111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阅读方法解密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品析心理描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23"/>
          <p:cNvSpPr/>
          <p:nvPr/>
        </p:nvSpPr>
        <p:spPr>
          <a:xfrm>
            <a:off x="903240" y="1846440"/>
            <a:ext cx="7346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什么是心理描写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文章中，对人物的心理状态、内心活动的描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心理描写有什么作用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能够直接展示人物内心世界，体现人物性格特点，使文学作品中的人物形象立体化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心理描写的答题模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运用了心理描写，写出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内心感受，表现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性格特点（思想感情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直线连接符 7"/>
          <p:cNvSpPr/>
          <p:nvPr/>
        </p:nvSpPr>
        <p:spPr>
          <a:xfrm>
            <a:off x="914400" y="1887480"/>
            <a:ext cx="7335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2"/>
          <p:cNvSpPr/>
          <p:nvPr/>
        </p:nvSpPr>
        <p:spPr>
          <a:xfrm>
            <a:off x="844560" y="2079720"/>
            <a:ext cx="76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那几步很小很小，用途却很大很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1"/>
          <p:cNvSpPr/>
          <p:nvPr/>
        </p:nvSpPr>
        <p:spPr>
          <a:xfrm>
            <a:off x="873000" y="2935440"/>
            <a:ext cx="782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人无法挽留时间，一个人的时间是有限的，但是人可以节约时间，提高学习和工作的效率，在有限的时间里做更多的事情。“很小很小”的积累，能换得“很大很大”的成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云形 7"/>
          <p:cNvGrpSpPr/>
          <p:nvPr/>
        </p:nvGrpSpPr>
        <p:grpSpPr>
          <a:xfrm>
            <a:off x="6315120" y="1378080"/>
            <a:ext cx="1517760" cy="987120"/>
            <a:chOff x="6315120" y="1378080"/>
            <a:chExt cx="1517760" cy="987120"/>
          </a:xfrm>
        </p:grpSpPr>
        <p:pic>
          <p:nvPicPr>
            <p:cNvPr id="128" name="云形 7" descr=""/>
            <p:cNvPicPr/>
            <p:nvPr/>
          </p:nvPicPr>
          <p:blipFill>
            <a:blip r:embed="rId1"/>
            <a:stretch/>
          </p:blipFill>
          <p:spPr>
            <a:xfrm>
              <a:off x="6315120" y="1378080"/>
              <a:ext cx="1517760" cy="9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756840" y="16034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对比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2"/>
          <p:cNvSpPr/>
          <p:nvPr/>
        </p:nvSpPr>
        <p:spPr>
          <a:xfrm>
            <a:off x="790560" y="41814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和时间赛跑”就是节约时间，珍惜时间，在有限的时间里做更多的事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组合 3"/>
          <p:cNvGrpSpPr/>
          <p:nvPr/>
        </p:nvGrpSpPr>
        <p:grpSpPr>
          <a:xfrm>
            <a:off x="873000" y="3309840"/>
            <a:ext cx="7683480" cy="560520"/>
            <a:chOff x="873000" y="3309840"/>
            <a:chExt cx="7683480" cy="560520"/>
          </a:xfrm>
        </p:grpSpPr>
        <p:sp>
          <p:nvSpPr>
            <p:cNvPr id="132" name="直接连接符 4"/>
            <p:cNvSpPr/>
            <p:nvPr/>
          </p:nvSpPr>
          <p:spPr>
            <a:xfrm>
              <a:off x="873000" y="387036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任意多边形 5"/>
            <p:cNvSpPr/>
            <p:nvPr/>
          </p:nvSpPr>
          <p:spPr>
            <a:xfrm>
              <a:off x="873000" y="3309840"/>
              <a:ext cx="7683480" cy="56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读了本文，你觉得“和时间赛跑”指的是什么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矩形 1"/>
          <p:cNvSpPr/>
          <p:nvPr/>
        </p:nvSpPr>
        <p:spPr>
          <a:xfrm>
            <a:off x="992160" y="1876320"/>
            <a:ext cx="74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果将来我有什么要教给我的孩子，我会告诉他：假若你一直和时间比赛，你就可以成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内容占位符 2"/>
          <p:cNvSpPr/>
          <p:nvPr/>
        </p:nvSpPr>
        <p:spPr>
          <a:xfrm>
            <a:off x="635040" y="1940040"/>
            <a:ext cx="220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1"/>
          <p:cNvSpPr/>
          <p:nvPr/>
        </p:nvSpPr>
        <p:spPr>
          <a:xfrm>
            <a:off x="977760" y="3186000"/>
            <a:ext cx="742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时间是永不停息的，和时间赛跑，人是跑不过时间的，但是只要抓紧时间，就能在相同时间里做更多的事情，这样日积月累就可以获得成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5"/>
          <p:cNvSpPr/>
          <p:nvPr/>
        </p:nvSpPr>
        <p:spPr>
          <a:xfrm>
            <a:off x="839880" y="2530440"/>
            <a:ext cx="74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怎样理解“和时间赛跑”的含义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内容占位符 2"/>
          <p:cNvSpPr/>
          <p:nvPr/>
        </p:nvSpPr>
        <p:spPr>
          <a:xfrm>
            <a:off x="851040" y="2454120"/>
            <a:ext cx="76453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通读课文，想一想“我”是从什么时候开始注 意到时间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1"/>
          <p:cNvSpPr/>
          <p:nvPr/>
        </p:nvSpPr>
        <p:spPr>
          <a:xfrm>
            <a:off x="1047600" y="3591000"/>
            <a:ext cx="725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7095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在“我”的外祖母去世后，“我”的父亲劝慰“我”的话，引发了“我”对时间的思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内容占位符 2"/>
          <p:cNvSpPr/>
          <p:nvPr/>
        </p:nvSpPr>
        <p:spPr>
          <a:xfrm>
            <a:off x="635040" y="173340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内容占位符 2"/>
          <p:cNvSpPr/>
          <p:nvPr/>
        </p:nvSpPr>
        <p:spPr>
          <a:xfrm>
            <a:off x="325440" y="1865160"/>
            <a:ext cx="8628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思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写了“我”与时间赛跑的几件事，分别是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1"/>
          <p:cNvSpPr/>
          <p:nvPr/>
        </p:nvSpPr>
        <p:spPr>
          <a:xfrm>
            <a:off x="671400" y="257508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2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写了“我”与时间赛跑的四件事。一是和太阳赛跑；二是和西北风赛跑；三是一个暑假才能写完的作业十天做完；四是三年级时就读哥哥读过的书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内容占位符 2"/>
          <p:cNvSpPr/>
          <p:nvPr/>
        </p:nvSpPr>
        <p:spPr>
          <a:xfrm>
            <a:off x="804960" y="1916280"/>
            <a:ext cx="76453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我”为什么会与时间赛跑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1"/>
          <p:cNvSpPr/>
          <p:nvPr/>
        </p:nvSpPr>
        <p:spPr>
          <a:xfrm>
            <a:off x="1135080" y="2571840"/>
            <a:ext cx="70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因为“我”感觉到时间的流逝却又无法挽留，心里非常焦急不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内容占位符 2"/>
          <p:cNvSpPr/>
          <p:nvPr/>
        </p:nvSpPr>
        <p:spPr>
          <a:xfrm>
            <a:off x="790560" y="1701720"/>
            <a:ext cx="76453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品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我”在与时间赛跑的过程中有什么收获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1"/>
          <p:cNvSpPr/>
          <p:nvPr/>
        </p:nvSpPr>
        <p:spPr>
          <a:xfrm>
            <a:off x="1116000" y="2460600"/>
            <a:ext cx="72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53172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我”在与时间赛跑的过程中，认识到时间的珍贵。和时间赛跑就能节省下更多的时间做其他的事情，节省的时间越多成功的几率就越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7"/>
          <p:cNvSpPr/>
          <p:nvPr/>
        </p:nvSpPr>
        <p:spPr>
          <a:xfrm>
            <a:off x="1300320" y="4440240"/>
            <a:ext cx="1942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965a"/>
                </a:solidFill>
                <a:latin typeface="黑体"/>
                <a:ea typeface="黑体"/>
              </a:rPr>
              <a:t>和时间赛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8"/>
          <p:cNvSpPr/>
          <p:nvPr/>
        </p:nvSpPr>
        <p:spPr>
          <a:xfrm>
            <a:off x="7819200" y="2394000"/>
            <a:ext cx="91188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我们要珍惜时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时间一起不复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9"/>
          <p:cNvSpPr/>
          <p:nvPr/>
        </p:nvSpPr>
        <p:spPr>
          <a:xfrm>
            <a:off x="645120" y="2648880"/>
            <a:ext cx="82008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和时间赛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1"/>
          <p:cNvSpPr/>
          <p:nvPr/>
        </p:nvSpPr>
        <p:spPr>
          <a:xfrm>
            <a:off x="1816200" y="2079720"/>
            <a:ext cx="170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965a"/>
                </a:solidFill>
                <a:latin typeface="黑体"/>
                <a:ea typeface="黑体"/>
              </a:rPr>
              <a:t>所有在时间里的事物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965a"/>
                </a:solidFill>
                <a:latin typeface="黑体"/>
                <a:ea typeface="黑体"/>
              </a:rPr>
              <a:t>都永远不会回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2"/>
          <p:cNvSpPr/>
          <p:nvPr/>
        </p:nvSpPr>
        <p:spPr>
          <a:xfrm>
            <a:off x="4021200" y="1676520"/>
            <a:ext cx="3571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人死了，就不能复活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右大括号 8"/>
          <p:cNvSpPr/>
          <p:nvPr/>
        </p:nvSpPr>
        <p:spPr>
          <a:xfrm rot="10800000">
            <a:off x="1225440" y="1979640"/>
            <a:ext cx="146160" cy="4216320"/>
          </a:xfrm>
          <a:custGeom>
            <a:avLst/>
            <a:gdLst>
              <a:gd name="textAreaLeft" fmla="*/ 0 w 146160"/>
              <a:gd name="textAreaRight" fmla="*/ 52560 w 146160"/>
              <a:gd name="textAreaTop" fmla="*/ 3600 h 4216320"/>
              <a:gd name="textAreaBottom" fmla="*/ 4212720 h 421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"/>
                  <a:pt x="10800" y="62"/>
                </a:cubicBezTo>
                <a:lnTo>
                  <a:pt x="10800" y="10738"/>
                </a:lnTo>
                <a:cubicBezTo>
                  <a:pt x="10800" y="10769"/>
                  <a:pt x="16200" y="10800"/>
                  <a:pt x="21600" y="10800"/>
                </a:cubicBezTo>
                <a:cubicBezTo>
                  <a:pt x="16200" y="10800"/>
                  <a:pt x="10800" y="10831"/>
                  <a:pt x="10800" y="10862"/>
                </a:cubicBezTo>
                <a:lnTo>
                  <a:pt x="10800" y="21538"/>
                </a:lnTo>
                <a:cubicBezTo>
                  <a:pt x="10800" y="21569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右大括号 9"/>
          <p:cNvSpPr/>
          <p:nvPr/>
        </p:nvSpPr>
        <p:spPr>
          <a:xfrm rot="10800000">
            <a:off x="3998880" y="1649160"/>
            <a:ext cx="46080" cy="2243160"/>
          </a:xfrm>
          <a:custGeom>
            <a:avLst/>
            <a:gdLst>
              <a:gd name="textAreaLeft" fmla="*/ 0 w 46080"/>
              <a:gd name="textAreaRight" fmla="*/ 16560 w 46080"/>
              <a:gd name="textAreaTop" fmla="*/ 1080 h 2243160"/>
              <a:gd name="textAreaBottom" fmla="*/ 2242080 h 224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"/>
                  <a:pt x="10800" y="37"/>
                </a:cubicBezTo>
                <a:lnTo>
                  <a:pt x="10800" y="10763"/>
                </a:lnTo>
                <a:cubicBezTo>
                  <a:pt x="10800" y="10782"/>
                  <a:pt x="16200" y="10800"/>
                  <a:pt x="21600" y="10800"/>
                </a:cubicBezTo>
                <a:cubicBezTo>
                  <a:pt x="16200" y="10800"/>
                  <a:pt x="10800" y="10819"/>
                  <a:pt x="10800" y="10837"/>
                </a:cubicBezTo>
                <a:lnTo>
                  <a:pt x="10800" y="21563"/>
                </a:lnTo>
                <a:cubicBezTo>
                  <a:pt x="10800" y="2158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8452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55" name="组合 3"/>
          <p:cNvGrpSpPr/>
          <p:nvPr/>
        </p:nvGrpSpPr>
        <p:grpSpPr>
          <a:xfrm>
            <a:off x="395280" y="1000080"/>
            <a:ext cx="2594160" cy="666720"/>
            <a:chOff x="395280" y="1000080"/>
            <a:chExt cx="2594160" cy="666720"/>
          </a:xfrm>
        </p:grpSpPr>
        <p:sp>
          <p:nvSpPr>
            <p:cNvPr id="156" name="圆角矩形 13"/>
            <p:cNvSpPr/>
            <p:nvPr/>
          </p:nvSpPr>
          <p:spPr>
            <a:xfrm>
              <a:off x="1211400" y="113796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7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395280" y="100008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文本框 16"/>
            <p:cNvSpPr/>
            <p:nvPr/>
          </p:nvSpPr>
          <p:spPr>
            <a:xfrm>
              <a:off x="1470600" y="115704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" name="矩形 7"/>
          <p:cNvSpPr/>
          <p:nvPr/>
        </p:nvSpPr>
        <p:spPr>
          <a:xfrm>
            <a:off x="1330200" y="5684760"/>
            <a:ext cx="3138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965a"/>
                </a:solidFill>
                <a:latin typeface="黑体"/>
                <a:ea typeface="黑体"/>
              </a:rPr>
              <a:t>和时间赛跑受益无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2"/>
          <p:cNvSpPr/>
          <p:nvPr/>
        </p:nvSpPr>
        <p:spPr>
          <a:xfrm>
            <a:off x="4032360" y="2173320"/>
            <a:ext cx="42098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人长大了，就不能回到以前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2"/>
          <p:cNvSpPr/>
          <p:nvPr/>
        </p:nvSpPr>
        <p:spPr>
          <a:xfrm>
            <a:off x="4059360" y="2705040"/>
            <a:ext cx="2793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太阳每天都是新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4071960" y="3259080"/>
            <a:ext cx="360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鸟明天再飞过同样的路线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也不是今天的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右大括号 20"/>
          <p:cNvSpPr/>
          <p:nvPr/>
        </p:nvSpPr>
        <p:spPr>
          <a:xfrm flipH="1" rot="10800000">
            <a:off x="7615800" y="1587240"/>
            <a:ext cx="52200" cy="4686120"/>
          </a:xfrm>
          <a:custGeom>
            <a:avLst/>
            <a:gdLst>
              <a:gd name="textAreaLeft" fmla="*/ -360 w 52200"/>
              <a:gd name="textAreaRight" fmla="*/ 18360 w 52200"/>
              <a:gd name="textAreaTop" fmla="*/ 1080 h 4686120"/>
              <a:gd name="textAreaBottom" fmla="*/ 4685040 h 468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"/>
                  <a:pt x="10800" y="20"/>
                </a:cubicBezTo>
                <a:lnTo>
                  <a:pt x="10800" y="10780"/>
                </a:lnTo>
                <a:cubicBezTo>
                  <a:pt x="10800" y="10790"/>
                  <a:pt x="16200" y="10800"/>
                  <a:pt x="21600" y="10800"/>
                </a:cubicBezTo>
                <a:cubicBezTo>
                  <a:pt x="16200" y="10800"/>
                  <a:pt x="10800" y="10810"/>
                  <a:pt x="10800" y="10820"/>
                </a:cubicBezTo>
                <a:lnTo>
                  <a:pt x="10800" y="21580"/>
                </a:lnTo>
                <a:cubicBezTo>
                  <a:pt x="10800" y="2159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右大括号 21"/>
          <p:cNvSpPr/>
          <p:nvPr/>
        </p:nvSpPr>
        <p:spPr>
          <a:xfrm rot="10800000">
            <a:off x="2827440" y="4185720"/>
            <a:ext cx="71280" cy="1519560"/>
          </a:xfrm>
          <a:custGeom>
            <a:avLst/>
            <a:gdLst>
              <a:gd name="textAreaLeft" fmla="*/ 0 w 71280"/>
              <a:gd name="textAreaRight" fmla="*/ 25560 w 71280"/>
              <a:gd name="textAreaTop" fmla="*/ 1800 h 1519560"/>
              <a:gd name="textAreaBottom" fmla="*/ 1517760 h 151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3"/>
                  <a:pt x="10800" y="85"/>
                </a:cubicBezTo>
                <a:lnTo>
                  <a:pt x="10800" y="10715"/>
                </a:lnTo>
                <a:cubicBezTo>
                  <a:pt x="10800" y="10758"/>
                  <a:pt x="16200" y="10800"/>
                  <a:pt x="21600" y="10800"/>
                </a:cubicBezTo>
                <a:cubicBezTo>
                  <a:pt x="16200" y="10800"/>
                  <a:pt x="10800" y="10843"/>
                  <a:pt x="10800" y="10885"/>
                </a:cubicBezTo>
                <a:lnTo>
                  <a:pt x="10800" y="21515"/>
                </a:lnTo>
                <a:cubicBezTo>
                  <a:pt x="10800" y="21558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2"/>
          <p:cNvSpPr/>
          <p:nvPr/>
        </p:nvSpPr>
        <p:spPr>
          <a:xfrm>
            <a:off x="2905200" y="4025880"/>
            <a:ext cx="1882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和太阳赛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2"/>
          <p:cNvSpPr/>
          <p:nvPr/>
        </p:nvSpPr>
        <p:spPr>
          <a:xfrm>
            <a:off x="2900520" y="4483080"/>
            <a:ext cx="2039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和西北风赛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2"/>
          <p:cNvSpPr/>
          <p:nvPr/>
        </p:nvSpPr>
        <p:spPr>
          <a:xfrm>
            <a:off x="2900520" y="4917960"/>
            <a:ext cx="2039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和作业赛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2"/>
          <p:cNvSpPr/>
          <p:nvPr/>
        </p:nvSpPr>
        <p:spPr>
          <a:xfrm>
            <a:off x="2898720" y="5349960"/>
            <a:ext cx="2163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和知识赛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"/>
          <p:cNvSpPr/>
          <p:nvPr/>
        </p:nvSpPr>
        <p:spPr>
          <a:xfrm>
            <a:off x="811080" y="2381400"/>
            <a:ext cx="75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理解课文的主要内容，理解含义深刻的词句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会时间的珍贵，形成珍惜时间的价值观念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图示 3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2" descr=""/>
          <p:cNvPicPr/>
          <p:nvPr/>
        </p:nvPicPr>
        <p:blipFill>
          <a:blip r:embed="rId2"/>
          <a:stretch/>
        </p:blipFill>
        <p:spPr>
          <a:xfrm>
            <a:off x="-3943440" y="714240"/>
            <a:ext cx="18972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内容占位符 2"/>
          <p:cNvSpPr/>
          <p:nvPr/>
        </p:nvSpPr>
        <p:spPr>
          <a:xfrm>
            <a:off x="934920" y="2084400"/>
            <a:ext cx="7417080" cy="30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写“我”小时候外祖母去世后，通过和爸爸的谈话，明白了时间一去不复返的道理，然后与时间赛跑，并因此受益无穷的故事。告诉我们，时间是珍贵的，要节约时间，珍惜时间，在有限的时间里做更多的事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71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2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16" descr=""/>
          <p:cNvPicPr/>
          <p:nvPr/>
        </p:nvPicPr>
        <p:blipFill>
          <a:blip r:embed="rId1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75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76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7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9" name="内容占位符 2"/>
          <p:cNvSpPr/>
          <p:nvPr/>
        </p:nvSpPr>
        <p:spPr>
          <a:xfrm>
            <a:off x="996840" y="1828800"/>
            <a:ext cx="73962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时间即生命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梁实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最令人怵目惊心的一件事，是看着钟表上的秒针一下一下地移动，每移动一下就是表示我们的寿命已经缩短了一部分。再看看墙上挂着的可以一张张撕下的日历，每天撕下一张就是表示我们的寿命又缩短了一天。因为时间即生命。没有人不爱惜他的生命，但很少人珍视他的时间。如果想在有生之年做一点什么事，学一点什么学问，充实自己，帮助别人，使生命成为有意义，不虚此生，那么就不可浪费光阴。这道理人人都懂，可是很少人真能积极不懈地善于利用他的时间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内容占位符 2"/>
          <p:cNvSpPr/>
          <p:nvPr/>
        </p:nvSpPr>
        <p:spPr>
          <a:xfrm>
            <a:off x="914400" y="1189080"/>
            <a:ext cx="73962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我自己就是浪费了很多时间的一个人。我不打麻将，我不经常的听戏看电影，几年中难得一次，我不长时间看电视，通常只看半个小时，我也不串门子闲聊天。有人问我：“那么你大部分时间都做了些什么呢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?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我痛自反省，我发现，除了职务上的必须及人情上所不能免的活动之外，我的时间大部分都浪费了。我应该集中精力，读我所未读过的书，我应该利用所有时间，写我所要写的东西，但是我没能这样做。我的好多的时间都糊里糊涂地混过去了，“少壮不努力，老大徒伤悲。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例如我翻译莎士比亚，本来计划于课余之暇每年翻译两部，二十年即可完成，但是我用了三十年，主要的原因是懒。翻译之所以完成，主要是因为活得相当长久，十分惊险。翻译完成之后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内容占位符 2"/>
          <p:cNvSpPr/>
          <p:nvPr/>
        </p:nvSpPr>
        <p:spPr>
          <a:xfrm>
            <a:off x="839880" y="1308240"/>
            <a:ext cx="764208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虽然仍有工作计划，但体力渐衰，有力不从心之感。假使年轻的时候鞭策自己，如今当有较好或较多的表现。然而悔之晚矣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再例如，作为一个中国人，经书不可不读。我年过三十才知道读书自修的重要。我披阅，我圈点，但是恒心不足，时作时辍。五十以学易，可以无大过矣，我如今年过八十，还没有接触过易经，说来惭愧。史书也很重要。我出国留学的时候，我父亲买了一套同文石印的前四史，塞满了我的行箧的一半空间，我在外国混了几年之后又把前四史原封带回来了。直到四十年后才鼓起勇气读了“通鉴”一遍。现在我要读的书太多，深感时间有限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无论做什么事，健康的身体是基本条件。我在学校读书的时候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内容占位符 2"/>
          <p:cNvSpPr/>
          <p:nvPr/>
        </p:nvSpPr>
        <p:spPr>
          <a:xfrm>
            <a:off x="839880" y="2003400"/>
            <a:ext cx="764208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有所谓“强迫运动”，我踢破过几双球鞋，打断过几只球拍。因此侥幸维持下来最低限度的体力。老来打过几年太极拳，目前则以散步活动筋骨而已。寄语年轻朋友，千万要持之以恒地从事运动，这不是嬉戏，不是浪费时间。健康的身体是作人做事的真正的本钱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0" descr="http://y1.ifengimg.com/culture_spider/dci_2013/06/2b651bf7d65a108be3f8323a4ddf09b7.jpg"/>
          <p:cNvPicPr/>
          <p:nvPr/>
        </p:nvPicPr>
        <p:blipFill>
          <a:blip r:embed="rId1"/>
          <a:stretch/>
        </p:blipFill>
        <p:spPr>
          <a:xfrm>
            <a:off x="1103400" y="1909800"/>
            <a:ext cx="7076880" cy="4370400"/>
          </a:xfrm>
          <a:prstGeom prst="rect">
            <a:avLst/>
          </a:prstGeom>
          <a:ln w="0">
            <a:noFill/>
          </a:ln>
        </p:spPr>
      </p:pic>
      <p:sp>
        <p:nvSpPr>
          <p:cNvPr id="184" name="矩形 1"/>
          <p:cNvSpPr/>
          <p:nvPr/>
        </p:nvSpPr>
        <p:spPr>
          <a:xfrm>
            <a:off x="1096920" y="2182680"/>
            <a:ext cx="7097760" cy="23497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盛年不重来，一日难再晨。 及时当勉励，岁月不待人。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杂诗十二首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·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其一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陶渊明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莫等闲，白了少年头，空悲切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满江红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岳飞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年岁岁花相似，岁岁年年人不同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代悲白头翁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刘希夷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组合 5"/>
          <p:cNvGrpSpPr/>
          <p:nvPr/>
        </p:nvGrpSpPr>
        <p:grpSpPr>
          <a:xfrm>
            <a:off x="422280" y="1176480"/>
            <a:ext cx="2593800" cy="666720"/>
            <a:chOff x="422280" y="1176480"/>
            <a:chExt cx="2593800" cy="666720"/>
          </a:xfrm>
        </p:grpSpPr>
        <p:sp>
          <p:nvSpPr>
            <p:cNvPr id="186" name="圆角矩形 6"/>
            <p:cNvSpPr/>
            <p:nvPr/>
          </p:nvSpPr>
          <p:spPr>
            <a:xfrm>
              <a:off x="1238040" y="131436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7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422280" y="117648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文本框 16"/>
            <p:cNvSpPr/>
            <p:nvPr/>
          </p:nvSpPr>
          <p:spPr>
            <a:xfrm>
              <a:off x="1497600" y="1333440"/>
              <a:ext cx="151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1"/>
          <p:cNvSpPr/>
          <p:nvPr/>
        </p:nvSpPr>
        <p:spPr>
          <a:xfrm>
            <a:off x="1803960" y="2095560"/>
            <a:ext cx="21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关于珍惜时间的谚语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1265400" y="2562120"/>
            <a:ext cx="7332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太阳落山了，人才感到阳光的可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挥霍金钱是败坏物，虚度年华是败坏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谁把一生的光阴虚度，便是抛下黄金未买一物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珍宝丢失了还可以找到，时间丢失了永远找不到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懒人嘴里明天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1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192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96" name="矩形 11"/>
          <p:cNvSpPr/>
          <p:nvPr/>
        </p:nvSpPr>
        <p:spPr>
          <a:xfrm>
            <a:off x="1017720" y="2268360"/>
            <a:ext cx="7380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学们，时间无处不在，它正悄悄地从我们身边流逝，当我们吃饭的时候，时间从饭碗里悄悄溜走；当我们和伙伴们嬉戏玩耍的时候，时间在我们的嬉笑声中溜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你听到了时光奔走的声音，请调整自己的心态，与时间赛跑吧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"/>
          <p:cNvPicPr/>
          <p:nvPr/>
        </p:nvPicPr>
        <p:blipFill>
          <a:blip r:embed="rId1"/>
          <a:stretch/>
        </p:blipFill>
        <p:spPr>
          <a:xfrm>
            <a:off x="-103320" y="768240"/>
            <a:ext cx="4303800" cy="1243080"/>
          </a:xfrm>
          <a:prstGeom prst="rect">
            <a:avLst/>
          </a:prstGeom>
          <a:ln w="0">
            <a:noFill/>
          </a:ln>
        </p:spPr>
      </p:pic>
      <p:sp>
        <p:nvSpPr>
          <p:cNvPr id="198" name="TextBox 2"/>
          <p:cNvSpPr/>
          <p:nvPr/>
        </p:nvSpPr>
        <p:spPr>
          <a:xfrm>
            <a:off x="895320" y="3843360"/>
            <a:ext cx="74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和太阳赛跑；和西北风赛跑；一个暑假才能完成的作业十天做完；三年级时就读哥哥读过的书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9" name="组合 1"/>
          <p:cNvGrpSpPr/>
          <p:nvPr/>
        </p:nvGrpSpPr>
        <p:grpSpPr>
          <a:xfrm>
            <a:off x="800280" y="1874880"/>
            <a:ext cx="7661160" cy="1351080"/>
            <a:chOff x="800280" y="1874880"/>
            <a:chExt cx="7661160" cy="1351080"/>
          </a:xfrm>
        </p:grpSpPr>
        <p:sp>
          <p:nvSpPr>
            <p:cNvPr id="200" name="圆角矩形 8"/>
            <p:cNvSpPr/>
            <p:nvPr/>
          </p:nvSpPr>
          <p:spPr>
            <a:xfrm>
              <a:off x="801720" y="2514240"/>
              <a:ext cx="7659720" cy="7117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8eb4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lvl="1">
                <a:lnSpc>
                  <a:spcPct val="150000"/>
                </a:lnSpc>
                <a:spcAft>
                  <a:spcPts val="451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.“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我”是怎样和时间赛跑的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任意多边形 9"/>
            <p:cNvSpPr/>
            <p:nvPr/>
          </p:nvSpPr>
          <p:spPr>
            <a:xfrm>
              <a:off x="1176120" y="1987560"/>
              <a:ext cx="2263320" cy="5043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eb4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52080" rIns="17064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思考与交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2" name="Picture 2" descr=""/>
            <p:cNvPicPr/>
            <p:nvPr/>
          </p:nvPicPr>
          <p:blipFill>
            <a:blip r:embed="rId2"/>
            <a:stretch/>
          </p:blipFill>
          <p:spPr>
            <a:xfrm>
              <a:off x="800280" y="1874880"/>
              <a:ext cx="8103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圆角矩形 8"/>
          <p:cNvSpPr/>
          <p:nvPr/>
        </p:nvSpPr>
        <p:spPr>
          <a:xfrm>
            <a:off x="800280" y="1675440"/>
            <a:ext cx="7661160" cy="711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272880" indent="-272880">
              <a:lnSpc>
                <a:spcPct val="150000"/>
              </a:lnSpc>
              <a:spcAft>
                <a:spcPts val="451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所有在时间里的事物，都永远不会回来。”课文列举了哪些事例来说明这句话？也可以结合自己生活中的事例来说一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2"/>
          <p:cNvSpPr/>
          <p:nvPr/>
        </p:nvSpPr>
        <p:spPr>
          <a:xfrm>
            <a:off x="896760" y="3189240"/>
            <a:ext cx="766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外祖母去世，永远不会回来了；太阳落山后，第二天再升起的就不是今天的太阳了；林鸟归窠，明天再飞过同样的路线，也不是今天的了。 生活中的事例有：月亮落下去后，明天的月亮就和今天的月亮不一样了；小河里的水流走了，就永远不会回来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组合 8"/>
          <p:cNvGrpSpPr/>
          <p:nvPr/>
        </p:nvGrpSpPr>
        <p:grpSpPr>
          <a:xfrm>
            <a:off x="600120" y="1014480"/>
            <a:ext cx="8080200" cy="5508720"/>
            <a:chOff x="600120" y="1014480"/>
            <a:chExt cx="8080200" cy="5508720"/>
          </a:xfrm>
        </p:grpSpPr>
        <p:sp>
          <p:nvSpPr>
            <p:cNvPr id="74" name="圆角矩形 4"/>
            <p:cNvSpPr/>
            <p:nvPr/>
          </p:nvSpPr>
          <p:spPr>
            <a:xfrm>
              <a:off x="600120" y="3876480"/>
              <a:ext cx="320760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一读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通读课文，想一想“我”是从什么时候开始注意到时间的。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圆角矩形 5"/>
            <p:cNvSpPr/>
            <p:nvPr/>
          </p:nvSpPr>
          <p:spPr>
            <a:xfrm>
              <a:off x="5224320" y="3889440"/>
              <a:ext cx="345600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二思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本文写了“我”与时间赛跑的几件事，分别是什么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圆角矩形 6"/>
            <p:cNvSpPr/>
            <p:nvPr/>
          </p:nvSpPr>
          <p:spPr>
            <a:xfrm>
              <a:off x="5211720" y="5239080"/>
              <a:ext cx="346860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四品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“我”在与时间赛跑的过程中有什么收获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圆角矩形 7"/>
            <p:cNvSpPr/>
            <p:nvPr/>
          </p:nvSpPr>
          <p:spPr>
            <a:xfrm>
              <a:off x="600120" y="5214240"/>
              <a:ext cx="3207600" cy="475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三探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“我”为什么会与时间赛跑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" name="组合 3"/>
            <p:cNvGrpSpPr/>
            <p:nvPr/>
          </p:nvGrpSpPr>
          <p:grpSpPr>
            <a:xfrm>
              <a:off x="2188080" y="1014480"/>
              <a:ext cx="4767480" cy="5508720"/>
              <a:chOff x="2188080" y="1014480"/>
              <a:chExt cx="4767480" cy="5508720"/>
            </a:xfrm>
          </p:grpSpPr>
          <p:pic>
            <p:nvPicPr>
              <p:cNvPr id="79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188080" y="1014480"/>
                <a:ext cx="4767480" cy="550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矩形 1"/>
              <p:cNvSpPr/>
              <p:nvPr/>
            </p:nvSpPr>
            <p:spPr>
              <a:xfrm>
                <a:off x="2434320" y="2193480"/>
                <a:ext cx="4219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核心问题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怎样理解“和时间赛跑”的含义？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矩形 2"/>
              <p:cNvSpPr/>
              <p:nvPr/>
            </p:nvSpPr>
            <p:spPr>
              <a:xfrm>
                <a:off x="4534560" y="13356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珍惜时间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圆角矩形 7"/>
          <p:cNvSpPr/>
          <p:nvPr/>
        </p:nvSpPr>
        <p:spPr>
          <a:xfrm>
            <a:off x="760320" y="1493280"/>
            <a:ext cx="7661520" cy="61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55680" indent="-355680">
              <a:lnSpc>
                <a:spcPct val="15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.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后来的二十几年里，我因此受益无穷。”说说“我”受到了什么启示。与同学们讨论“我”在后来的二十几年里得到了哪些益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2"/>
          <p:cNvSpPr/>
          <p:nvPr/>
        </p:nvSpPr>
        <p:spPr>
          <a:xfrm>
            <a:off x="808200" y="2681280"/>
            <a:ext cx="78166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时间一去不复返，我们永远也跑不过时间，但是珍惜时间，与时间赛跑，在有限的时间里做更多的事，会让生命更加充实有意义。益处：作者明白了时间的珍贵性，为了实现作家梦，十几年如一日，每天早晨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4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点多就起来看书写作，每天坚持写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3000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字，每年就是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100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多万字，因此后来在文学领域取得巨大成就。他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17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岁开始发表作品，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20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岁出版第一本书之后一发不可收，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30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岁前就已经得遍了台湾所有文学大奖，是获得各类文学奖最多的一位。作品有报告文学、文艺评论、剧本等，最有成就的是散文创作。他是台湾地区优秀的散文家，被誉为“当代散文八大家”之一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2"/>
          <p:cNvSpPr/>
          <p:nvPr/>
        </p:nvSpPr>
        <p:spPr>
          <a:xfrm>
            <a:off x="677880" y="3400560"/>
            <a:ext cx="793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我认为和时间赛跑，能充分利用时间，提高工作、学习的效率，这样日积月累，积少成多，就会比别人收获更多。例如：别人一天读一页书，我读两页书，天长日久，我就会比别人多读一本书、两本书甚至更多的书。另外，每节课都能高效地利用每一分钟，不犯困，不走神；每天睡觉前，回想一遍当天的课程；每周末巩固好本周所学内容，这样获得的知识就更多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8" name="组合 1"/>
          <p:cNvGrpSpPr/>
          <p:nvPr/>
        </p:nvGrpSpPr>
        <p:grpSpPr>
          <a:xfrm>
            <a:off x="595440" y="1055520"/>
            <a:ext cx="8083440" cy="1716840"/>
            <a:chOff x="595440" y="1055520"/>
            <a:chExt cx="8083440" cy="1716840"/>
          </a:xfrm>
        </p:grpSpPr>
        <p:sp>
          <p:nvSpPr>
            <p:cNvPr id="209" name="圆角矩形 7"/>
            <p:cNvSpPr/>
            <p:nvPr/>
          </p:nvSpPr>
          <p:spPr>
            <a:xfrm>
              <a:off x="595440" y="2161440"/>
              <a:ext cx="8083440" cy="610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8eb4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lvl="1" marL="355680" indent="-355680">
                <a:lnSpc>
                  <a:spcPct val="150000"/>
                </a:lnSpc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.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有的人读了这篇课文，认为：“既然时间一去不复返，我们永远也追不上时间，那么我们和时间赛跑还有什么意义呢？”你的看法是什么？请搜集生活中的实例来支持你的观点，与大家交流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任意多边形 9"/>
            <p:cNvSpPr/>
            <p:nvPr/>
          </p:nvSpPr>
          <p:spPr>
            <a:xfrm>
              <a:off x="904680" y="1153440"/>
              <a:ext cx="2438280" cy="55584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eb4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52080" rIns="17064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拓展与运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1" name="Picture 7" descr=""/>
            <p:cNvPicPr/>
            <p:nvPr/>
          </p:nvPicPr>
          <p:blipFill>
            <a:blip r:embed="rId1"/>
            <a:stretch/>
          </p:blipFill>
          <p:spPr>
            <a:xfrm>
              <a:off x="749880" y="1055520"/>
              <a:ext cx="749520" cy="71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2"/>
          <p:cNvSpPr/>
          <p:nvPr/>
        </p:nvSpPr>
        <p:spPr>
          <a:xfrm>
            <a:off x="781200" y="3824280"/>
            <a:ext cx="769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与其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不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……”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是表示选择关系的关联词语，它表示舍弃前者，选择后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加点词语造句：我与其因捣乱挨老师的批评，不如遵守纪律，获得老师的表扬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组合 1"/>
          <p:cNvGrpSpPr/>
          <p:nvPr/>
        </p:nvGrpSpPr>
        <p:grpSpPr>
          <a:xfrm>
            <a:off x="568440" y="1793520"/>
            <a:ext cx="8056440" cy="1839240"/>
            <a:chOff x="568440" y="1793520"/>
            <a:chExt cx="8056440" cy="1839240"/>
          </a:xfrm>
        </p:grpSpPr>
        <p:sp>
          <p:nvSpPr>
            <p:cNvPr id="214" name="圆角矩形 7"/>
            <p:cNvSpPr/>
            <p:nvPr/>
          </p:nvSpPr>
          <p:spPr>
            <a:xfrm>
              <a:off x="568440" y="1793520"/>
              <a:ext cx="8056440" cy="1320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8eb4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lvl="1" marL="355680" indent="-355680">
                <a:lnSpc>
                  <a:spcPct val="150000"/>
                </a:lnSpc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.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读句子体会加点词语在句中的作用，并用加点词语说一句话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55680" indent="-355680">
                <a:lnSpc>
                  <a:spcPct val="150000"/>
                </a:lnSpc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1)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他们知道，与其骗我说外祖母睡着了，有一天还会醒来，不如对我实说：“你的外祖母永远不会回来了。”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TextBox 1"/>
            <p:cNvSpPr/>
            <p:nvPr/>
          </p:nvSpPr>
          <p:spPr>
            <a:xfrm>
              <a:off x="1779840" y="317304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. 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TextBox 1"/>
            <p:cNvSpPr/>
            <p:nvPr/>
          </p:nvSpPr>
          <p:spPr>
            <a:xfrm>
              <a:off x="2844360" y="260928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. 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2"/>
          <p:cNvSpPr/>
          <p:nvPr/>
        </p:nvSpPr>
        <p:spPr>
          <a:xfrm>
            <a:off x="698400" y="3182760"/>
            <a:ext cx="770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虽然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但是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……”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是表示转折关系的关联词语，前半句提出某种事实或情况，后半句转向与前半句意思相反的方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加点词语造句：虽然我们相识的日子很短暂，但是我们之间的友谊很深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" name="组合 2"/>
          <p:cNvGrpSpPr/>
          <p:nvPr/>
        </p:nvGrpSpPr>
        <p:grpSpPr>
          <a:xfrm>
            <a:off x="582480" y="1467360"/>
            <a:ext cx="7893360" cy="1000440"/>
            <a:chOff x="582480" y="1467360"/>
            <a:chExt cx="7893360" cy="1000440"/>
          </a:xfrm>
        </p:grpSpPr>
        <p:sp>
          <p:nvSpPr>
            <p:cNvPr id="219" name="圆角矩形 7"/>
            <p:cNvSpPr/>
            <p:nvPr/>
          </p:nvSpPr>
          <p:spPr>
            <a:xfrm>
              <a:off x="582480" y="1756080"/>
              <a:ext cx="7893360" cy="7117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8eb4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lvl="1" marL="450720" indent="-450720">
                <a:lnSpc>
                  <a:spcPct val="150000"/>
                </a:lnSpc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2)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虽然我知道人永远跑不过时间，但是人可以比自己原来有的时间跑快一步，如果跑得够快，就可以快好几步。那几步很小很小，用途却很大很大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TextBox 1"/>
            <p:cNvSpPr/>
            <p:nvPr/>
          </p:nvSpPr>
          <p:spPr>
            <a:xfrm>
              <a:off x="1263240" y="148500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. 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TextBox 1"/>
            <p:cNvSpPr/>
            <p:nvPr/>
          </p:nvSpPr>
          <p:spPr>
            <a:xfrm>
              <a:off x="5562360" y="146736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. 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2"/>
          <p:cNvSpPr/>
          <p:nvPr/>
        </p:nvSpPr>
        <p:spPr>
          <a:xfrm>
            <a:off x="814320" y="3908520"/>
            <a:ext cx="766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点拨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读词语时，注意声调，要把字音读准确。写加点的词语时要注意观察字形，别写错别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3" name="组合 1"/>
          <p:cNvGrpSpPr/>
          <p:nvPr/>
        </p:nvGrpSpPr>
        <p:grpSpPr>
          <a:xfrm>
            <a:off x="814320" y="1327320"/>
            <a:ext cx="7661520" cy="2461320"/>
            <a:chOff x="814320" y="1327320"/>
            <a:chExt cx="7661520" cy="2461320"/>
          </a:xfrm>
        </p:grpSpPr>
        <p:grpSp>
          <p:nvGrpSpPr>
            <p:cNvPr id="224" name="组合 2"/>
            <p:cNvGrpSpPr/>
            <p:nvPr/>
          </p:nvGrpSpPr>
          <p:grpSpPr>
            <a:xfrm>
              <a:off x="814320" y="1327320"/>
              <a:ext cx="7661520" cy="2461320"/>
              <a:chOff x="814320" y="1327320"/>
              <a:chExt cx="7661520" cy="2461320"/>
            </a:xfrm>
          </p:grpSpPr>
          <p:grpSp>
            <p:nvGrpSpPr>
              <p:cNvPr id="225" name="组合 6"/>
              <p:cNvGrpSpPr/>
              <p:nvPr/>
            </p:nvGrpSpPr>
            <p:grpSpPr>
              <a:xfrm>
                <a:off x="814320" y="1416240"/>
                <a:ext cx="7661520" cy="2372400"/>
                <a:chOff x="814320" y="1416240"/>
                <a:chExt cx="7661520" cy="2372400"/>
              </a:xfrm>
            </p:grpSpPr>
            <p:sp>
              <p:nvSpPr>
                <p:cNvPr id="226" name="圆角矩形 7"/>
                <p:cNvSpPr/>
                <p:nvPr/>
              </p:nvSpPr>
              <p:spPr>
                <a:xfrm>
                  <a:off x="814320" y="1734120"/>
                  <a:ext cx="7661520" cy="2054520"/>
                </a:xfrm>
                <a:prstGeom prst="roundRect">
                  <a:avLst>
                    <a:gd name="adj" fmla="val 16667"/>
                  </a:avLst>
                </a:prstGeom>
                <a:noFill/>
                <a:ln w="9360">
                  <a:solidFill>
                    <a:srgbClr val="8eb4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lvl="1">
                    <a:lnSpc>
                      <a:spcPct val="150000"/>
                    </a:lnSpc>
                    <a:spcAft>
                      <a:spcPts val="451"/>
                    </a:spcAft>
                    <a:tabLst>
                      <a:tab algn="l" pos="0"/>
                      <a:tab algn="l" pos="1066680"/>
                      <a:tab algn="l" pos="2133720"/>
                      <a:tab algn="l" pos="3200400"/>
                      <a:tab algn="l" pos="4267080"/>
                      <a:tab algn="l" pos="5334120"/>
                      <a:tab algn="l" pos="6400800"/>
                      <a:tab algn="l" pos="7467480"/>
                      <a:tab algn="l" pos="8534520"/>
                      <a:tab algn="l" pos="9601200"/>
                      <a:tab algn="l" pos="1066788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Calibri"/>
                      <a:ea typeface="宋体"/>
                    </a:rPr>
                    <a:t>读一读，把加点的词语写下来。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lvl="1">
                    <a:lnSpc>
                      <a:spcPct val="150000"/>
                    </a:lnSpc>
                    <a:spcAft>
                      <a:spcPts val="451"/>
                    </a:spcAft>
                    <a:tabLst>
                      <a:tab algn="l" pos="0"/>
                      <a:tab algn="l" pos="1066680"/>
                      <a:tab algn="l" pos="2133720"/>
                      <a:tab algn="l" pos="3200400"/>
                      <a:tab algn="l" pos="4267080"/>
                      <a:tab algn="l" pos="5334120"/>
                      <a:tab algn="l" pos="6400800"/>
                      <a:tab algn="l" pos="7467480"/>
                      <a:tab algn="l" pos="8534520"/>
                      <a:tab algn="l" pos="9601200"/>
                      <a:tab algn="l" pos="1066788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Calibri"/>
                      <a:ea typeface="宋体"/>
                    </a:rPr>
                    <a:t>庭院   范本   谜语   撕扯   安慰   喘气   日月如梭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lvl="1">
                    <a:lnSpc>
                      <a:spcPct val="150000"/>
                    </a:lnSpc>
                    <a:spcAft>
                      <a:spcPts val="451"/>
                    </a:spcAft>
                    <a:tabLst>
                      <a:tab algn="l" pos="0"/>
                      <a:tab algn="l" pos="1066680"/>
                      <a:tab algn="l" pos="2133720"/>
                      <a:tab algn="l" pos="3200400"/>
                      <a:tab algn="l" pos="4267080"/>
                      <a:tab algn="l" pos="5334120"/>
                      <a:tab algn="l" pos="6400800"/>
                      <a:tab algn="l" pos="7467480"/>
                      <a:tab algn="l" pos="8534520"/>
                      <a:tab algn="l" pos="9601200"/>
                      <a:tab algn="l" pos="1066788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Calibri"/>
                      <a:ea typeface="宋体"/>
                    </a:rPr>
                    <a:t>受益无穷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7" name="任意多边形 9"/>
                <p:cNvSpPr/>
                <p:nvPr/>
              </p:nvSpPr>
              <p:spPr>
                <a:xfrm>
                  <a:off x="1301400" y="1416240"/>
                  <a:ext cx="1536480" cy="506160"/>
                </a:xfrm>
                <a:prstGeom prst="pie">
                  <a:avLst/>
                </a:prstGeom>
                <a:solidFill>
                  <a:srgbClr val="ffffff"/>
                </a:solidFill>
                <a:ln w="25560">
                  <a:solidFill>
                    <a:srgbClr val="8eb4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52080" rIns="170640" tIns="91440" bIns="9144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049"/>
                    </a:spcAft>
                    <a:tabLst>
                      <a:tab algn="l" pos="0"/>
                      <a:tab algn="l" pos="1066680"/>
                      <a:tab algn="l" pos="2133720"/>
                      <a:tab algn="l" pos="3200400"/>
                      <a:tab algn="l" pos="4267080"/>
                      <a:tab algn="l" pos="5334120"/>
                      <a:tab algn="l" pos="6400800"/>
                      <a:tab algn="l" pos="7467480"/>
                      <a:tab algn="l" pos="8534520"/>
                      <a:tab algn="l" pos="9601200"/>
                      <a:tab algn="l" pos="1066788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积累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228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1023840" y="1327320"/>
                <a:ext cx="749520" cy="659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9" name="TextBox 1"/>
            <p:cNvSpPr/>
            <p:nvPr/>
          </p:nvSpPr>
          <p:spPr>
            <a:xfrm>
              <a:off x="1060200" y="267336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. 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TextBox 1"/>
            <p:cNvSpPr/>
            <p:nvPr/>
          </p:nvSpPr>
          <p:spPr>
            <a:xfrm>
              <a:off x="1855800" y="266220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. 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TextBox 1"/>
            <p:cNvSpPr/>
            <p:nvPr/>
          </p:nvSpPr>
          <p:spPr>
            <a:xfrm>
              <a:off x="2685960" y="266220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. 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TextBox 1"/>
            <p:cNvSpPr/>
            <p:nvPr/>
          </p:nvSpPr>
          <p:spPr>
            <a:xfrm>
              <a:off x="3500280" y="264492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. 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TextBox 1"/>
            <p:cNvSpPr/>
            <p:nvPr/>
          </p:nvSpPr>
          <p:spPr>
            <a:xfrm>
              <a:off x="1050840" y="323856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. 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TextBox 1"/>
            <p:cNvSpPr/>
            <p:nvPr/>
          </p:nvSpPr>
          <p:spPr>
            <a:xfrm>
              <a:off x="1680840" y="324000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. 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aphicFrame>
        <p:nvGraphicFramePr>
          <p:cNvPr id="236" name=""/>
          <p:cNvGraphicFramePr/>
          <p:nvPr/>
        </p:nvGraphicFramePr>
        <p:xfrm>
          <a:off x="4110120" y="313380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4110120" y="445284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1749600" y="313380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1749600" y="445284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矩形 23"/>
          <p:cNvSpPr/>
          <p:nvPr/>
        </p:nvSpPr>
        <p:spPr>
          <a:xfrm>
            <a:off x="971640" y="2004840"/>
            <a:ext cx="756108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看拼音，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ī   chě       tíng yuàn        yì ch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mí  yǔ         mó  fàn        pán xuá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24"/>
          <p:cNvSpPr/>
          <p:nvPr/>
        </p:nvSpPr>
        <p:spPr>
          <a:xfrm>
            <a:off x="1964160" y="3176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撕 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25"/>
          <p:cNvSpPr/>
          <p:nvPr/>
        </p:nvSpPr>
        <p:spPr>
          <a:xfrm>
            <a:off x="1966680" y="44956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谜 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矩形 26"/>
          <p:cNvSpPr/>
          <p:nvPr/>
        </p:nvSpPr>
        <p:spPr>
          <a:xfrm>
            <a:off x="4325760" y="31827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庭 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27"/>
          <p:cNvSpPr/>
          <p:nvPr/>
        </p:nvSpPr>
        <p:spPr>
          <a:xfrm>
            <a:off x="4335120" y="44798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模 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515280" y="311004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6515280" y="442764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矩形 30"/>
          <p:cNvSpPr/>
          <p:nvPr/>
        </p:nvSpPr>
        <p:spPr>
          <a:xfrm>
            <a:off x="6730560" y="315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益 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31"/>
          <p:cNvSpPr/>
          <p:nvPr/>
        </p:nvSpPr>
        <p:spPr>
          <a:xfrm>
            <a:off x="6740280" y="445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盘 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12"/>
          <p:cNvSpPr/>
          <p:nvPr/>
        </p:nvSpPr>
        <p:spPr>
          <a:xfrm>
            <a:off x="674640" y="1760400"/>
            <a:ext cx="754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仿例写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断断续续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  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气喘吁吁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  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日月如梭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  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矩形 6"/>
          <p:cNvSpPr/>
          <p:nvPr/>
        </p:nvSpPr>
        <p:spPr>
          <a:xfrm>
            <a:off x="3391920" y="2384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三三两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6"/>
          <p:cNvSpPr/>
          <p:nvPr/>
        </p:nvSpPr>
        <p:spPr>
          <a:xfrm>
            <a:off x="5672880" y="2365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马马虎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6"/>
          <p:cNvSpPr/>
          <p:nvPr/>
        </p:nvSpPr>
        <p:spPr>
          <a:xfrm>
            <a:off x="3394080" y="2959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小心翼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6"/>
          <p:cNvSpPr/>
          <p:nvPr/>
        </p:nvSpPr>
        <p:spPr>
          <a:xfrm>
            <a:off x="5676120" y="294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金光闪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矩形 6"/>
          <p:cNvSpPr/>
          <p:nvPr/>
        </p:nvSpPr>
        <p:spPr>
          <a:xfrm>
            <a:off x="3394080" y="3505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守口如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 6"/>
          <p:cNvSpPr/>
          <p:nvPr/>
        </p:nvSpPr>
        <p:spPr>
          <a:xfrm>
            <a:off x="5676120" y="3486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惜时如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矩形 3"/>
          <p:cNvSpPr/>
          <p:nvPr/>
        </p:nvSpPr>
        <p:spPr>
          <a:xfrm>
            <a:off x="885960" y="1119240"/>
            <a:ext cx="754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为带点词换个意思相近的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时间过得那么飞快，使我小小的心灵里不只是着急，更是悲伤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以后我就时常做那样的游戏，有时和太阳赛跑，有时跑过西北风的追赶，有时一个暑假才能写完的作业，我十天就做完了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我无法排解自己的忧伤，每天在学校操场一圈又一圈地跑着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假若你一直和时间比赛，你就可以成功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矩形 2"/>
          <p:cNvSpPr/>
          <p:nvPr/>
        </p:nvSpPr>
        <p:spPr>
          <a:xfrm>
            <a:off x="3278520" y="2219400"/>
            <a:ext cx="8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伤心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4"/>
          <p:cNvSpPr/>
          <p:nvPr/>
        </p:nvSpPr>
        <p:spPr>
          <a:xfrm>
            <a:off x="4745160" y="3854520"/>
            <a:ext cx="101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经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7168"/>
          <p:cNvSpPr/>
          <p:nvPr/>
        </p:nvSpPr>
        <p:spPr>
          <a:xfrm>
            <a:off x="2099880" y="2519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矩形 7168"/>
          <p:cNvSpPr/>
          <p:nvPr/>
        </p:nvSpPr>
        <p:spPr>
          <a:xfrm>
            <a:off x="2742840" y="306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7168"/>
          <p:cNvSpPr/>
          <p:nvPr/>
        </p:nvSpPr>
        <p:spPr>
          <a:xfrm>
            <a:off x="2442960" y="4678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矩形 7168"/>
          <p:cNvSpPr/>
          <p:nvPr/>
        </p:nvSpPr>
        <p:spPr>
          <a:xfrm>
            <a:off x="1542600" y="5800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矩形 22"/>
          <p:cNvSpPr/>
          <p:nvPr/>
        </p:nvSpPr>
        <p:spPr>
          <a:xfrm>
            <a:off x="3240000" y="4962600"/>
            <a:ext cx="101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排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23"/>
          <p:cNvSpPr/>
          <p:nvPr/>
        </p:nvSpPr>
        <p:spPr>
          <a:xfrm>
            <a:off x="7118280" y="5514840"/>
            <a:ext cx="101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如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3"/>
          <p:cNvSpPr/>
          <p:nvPr/>
        </p:nvSpPr>
        <p:spPr>
          <a:xfrm>
            <a:off x="955800" y="1228680"/>
            <a:ext cx="7569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为下面的句子填写上合适的关联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明天的太阳依然会升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今天的太阳永远不会回来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他们知道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骗我说外祖母睡着了，有一天还会醒来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我实说：“你的外祖母永远不会回来了。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知道人永远跑不过时间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可以比自己原来有的时间跑快一步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跑得够快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以快好几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矩形 1"/>
          <p:cNvSpPr/>
          <p:nvPr/>
        </p:nvSpPr>
        <p:spPr>
          <a:xfrm>
            <a:off x="1887120" y="1890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虽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5"/>
          <p:cNvSpPr/>
          <p:nvPr/>
        </p:nvSpPr>
        <p:spPr>
          <a:xfrm>
            <a:off x="6597360" y="1889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矩形 8"/>
          <p:cNvSpPr/>
          <p:nvPr/>
        </p:nvSpPr>
        <p:spPr>
          <a:xfrm>
            <a:off x="3401640" y="3009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与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矩形 9"/>
          <p:cNvSpPr/>
          <p:nvPr/>
        </p:nvSpPr>
        <p:spPr>
          <a:xfrm>
            <a:off x="3387240" y="353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不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矩形 10"/>
          <p:cNvSpPr/>
          <p:nvPr/>
        </p:nvSpPr>
        <p:spPr>
          <a:xfrm>
            <a:off x="1879200" y="4633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虽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矩形 11"/>
          <p:cNvSpPr/>
          <p:nvPr/>
        </p:nvSpPr>
        <p:spPr>
          <a:xfrm>
            <a:off x="6800400" y="4633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但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矩形 12"/>
          <p:cNvSpPr/>
          <p:nvPr/>
        </p:nvSpPr>
        <p:spPr>
          <a:xfrm>
            <a:off x="6481440" y="5183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如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13"/>
          <p:cNvSpPr/>
          <p:nvPr/>
        </p:nvSpPr>
        <p:spPr>
          <a:xfrm>
            <a:off x="2568600" y="5726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"/>
          <p:cNvSpPr/>
          <p:nvPr/>
        </p:nvSpPr>
        <p:spPr>
          <a:xfrm>
            <a:off x="927000" y="1469880"/>
            <a:ext cx="760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读小学的时候，我的外祖母过世了。外祖母生前最疼爱我，我无法排解自己的忧伤，每天在学校操场一圈又一圈地跑着，跑得累倒在地上，扑在草坪上痛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11"/>
          <p:cNvSpPr/>
          <p:nvPr/>
        </p:nvSpPr>
        <p:spPr>
          <a:xfrm>
            <a:off x="885960" y="4154400"/>
            <a:ext cx="77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写外祖母的过世使“我”感到悲伤，以此引出时间一去不复返的话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组合 12"/>
          <p:cNvGrpSpPr/>
          <p:nvPr/>
        </p:nvGrpSpPr>
        <p:grpSpPr>
          <a:xfrm>
            <a:off x="982800" y="3363840"/>
            <a:ext cx="7683480" cy="558720"/>
            <a:chOff x="982800" y="3363840"/>
            <a:chExt cx="7683480" cy="558720"/>
          </a:xfrm>
        </p:grpSpPr>
        <p:sp>
          <p:nvSpPr>
            <p:cNvPr id="85" name="直接连接符 13"/>
            <p:cNvSpPr/>
            <p:nvPr/>
          </p:nvSpPr>
          <p:spPr>
            <a:xfrm>
              <a:off x="982800" y="392256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任意多边形 16"/>
            <p:cNvSpPr/>
            <p:nvPr/>
          </p:nvSpPr>
          <p:spPr>
            <a:xfrm>
              <a:off x="982800" y="3363840"/>
              <a:ext cx="7683480" cy="558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这段话有什么作用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8"/>
          <p:cNvSpPr/>
          <p:nvPr/>
        </p:nvSpPr>
        <p:spPr>
          <a:xfrm>
            <a:off x="7570800" y="2128680"/>
            <a:ext cx="690480" cy="35424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1414440" y="2127240"/>
            <a:ext cx="689040" cy="3538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2"/>
          <p:cNvSpPr/>
          <p:nvPr/>
        </p:nvSpPr>
        <p:spPr>
          <a:xfrm>
            <a:off x="735120" y="18414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与其骗我说外祖母睡着了，有一天还会醒来，不如对我实说：“你的外祖母永远不会回来了。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1"/>
          <p:cNvSpPr/>
          <p:nvPr/>
        </p:nvSpPr>
        <p:spPr>
          <a:xfrm>
            <a:off x="885960" y="3308400"/>
            <a:ext cx="779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与其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不如”表示选择关系，它表示选择了后者，放弃了前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885960" y="1827360"/>
            <a:ext cx="7683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仿写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“与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如”写一句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图片 24" descr="花盆.png"/>
          <p:cNvPicPr/>
          <p:nvPr/>
        </p:nvPicPr>
        <p:blipFill>
          <a:blip r:embed="rId1"/>
          <a:stretch/>
        </p:blipFill>
        <p:spPr>
          <a:xfrm>
            <a:off x="642960" y="198108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93" name="矩形 2"/>
          <p:cNvSpPr/>
          <p:nvPr/>
        </p:nvSpPr>
        <p:spPr>
          <a:xfrm>
            <a:off x="982800" y="2917800"/>
            <a:ext cx="70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示例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下雪啦，与其在家里隔窗欣赏，不如去外面堆个雪人、打场雪仗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组合 3"/>
          <p:cNvGrpSpPr/>
          <p:nvPr/>
        </p:nvGrpSpPr>
        <p:grpSpPr>
          <a:xfrm>
            <a:off x="5259240" y="3714840"/>
            <a:ext cx="3683160" cy="2717640"/>
            <a:chOff x="5259240" y="3714840"/>
            <a:chExt cx="3683160" cy="2717640"/>
          </a:xfrm>
        </p:grpSpPr>
        <p:pic>
          <p:nvPicPr>
            <p:cNvPr id="95" name="Picture 2" descr="https://timgsa.baidu.com/timg?image&amp;quality=80&amp;size=b9999_10000&amp;sec=1492599224211&amp;di=b92c10ad48cc39ac129ca93e6f8217fc&amp;imgtype=0&amp;src=http%3A%2F%2Fimg.taopic.com%2Fuploads%2Fallimg%2F120827%2F214833-120RGS53295.jpg"/>
            <p:cNvPicPr/>
            <p:nvPr/>
          </p:nvPicPr>
          <p:blipFill>
            <a:blip r:embed="rId2"/>
            <a:stretch/>
          </p:blipFill>
          <p:spPr>
            <a:xfrm>
              <a:off x="5259240" y="3714840"/>
              <a:ext cx="3683160" cy="27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矩形 1"/>
            <p:cNvSpPr/>
            <p:nvPr/>
          </p:nvSpPr>
          <p:spPr>
            <a:xfrm>
              <a:off x="5549040" y="3915000"/>
              <a:ext cx="249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相信你还能说出更多这样的句子，试一试吧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2"/>
          <p:cNvSpPr/>
          <p:nvPr/>
        </p:nvSpPr>
        <p:spPr>
          <a:xfrm>
            <a:off x="1036800" y="2276640"/>
            <a:ext cx="72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所有在时间里的事物，都永远不会回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云形 7"/>
          <p:cNvGrpSpPr/>
          <p:nvPr/>
        </p:nvGrpSpPr>
        <p:grpSpPr>
          <a:xfrm>
            <a:off x="5827680" y="1407960"/>
            <a:ext cx="1987560" cy="987480"/>
            <a:chOff x="5827680" y="1407960"/>
            <a:chExt cx="1987560" cy="987480"/>
          </a:xfrm>
        </p:grpSpPr>
        <p:pic>
          <p:nvPicPr>
            <p:cNvPr id="99" name="云形 7" descr=""/>
            <p:cNvPicPr/>
            <p:nvPr/>
          </p:nvPicPr>
          <p:blipFill>
            <a:blip r:embed="rId1"/>
            <a:stretch/>
          </p:blipFill>
          <p:spPr>
            <a:xfrm>
              <a:off x="5827680" y="1407960"/>
              <a:ext cx="19875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395760" y="16351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中心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矩形 6"/>
          <p:cNvSpPr/>
          <p:nvPr/>
        </p:nvSpPr>
        <p:spPr>
          <a:xfrm>
            <a:off x="1076400" y="2898720"/>
            <a:ext cx="73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过去的事物不会回来，现在的事物正在远去，一切都不会回到原来的样子。这是爸爸希望“我”能明白的道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2"/>
          <p:cNvSpPr/>
          <p:nvPr/>
        </p:nvSpPr>
        <p:spPr>
          <a:xfrm>
            <a:off x="666720" y="2303640"/>
            <a:ext cx="722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爸爸等于给了我一个谜语，那个谜语</a:t>
            </a:r>
            <a:r>
              <a:rPr b="1" lang="zh-CN" sz="2400" spc="-1" strike="noStrike">
                <a:solidFill>
                  <a:srgbClr val="00b0f0"/>
                </a:solidFill>
                <a:latin typeface="楷体"/>
                <a:ea typeface="楷体"/>
              </a:rPr>
              <a:t>比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课本上的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“日历日历挂在墙壁，一天撕去一页，使我心里着急”，“一寸光阴一寸金，寸金难买寸光阴”</a:t>
            </a:r>
            <a:r>
              <a:rPr b="1" lang="zh-CN" sz="2400" spc="-1" strike="noStrike">
                <a:solidFill>
                  <a:srgbClr val="00b0f0"/>
                </a:solidFill>
                <a:latin typeface="楷体"/>
                <a:ea typeface="楷体"/>
              </a:rPr>
              <a:t>还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让我感到可怕，也</a:t>
            </a:r>
            <a:r>
              <a:rPr b="1" lang="zh-CN" sz="2400" spc="-1" strike="noStrike">
                <a:solidFill>
                  <a:srgbClr val="00b0f0"/>
                </a:solidFill>
                <a:latin typeface="楷体"/>
                <a:ea typeface="楷体"/>
              </a:rPr>
              <a:t>比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作文范本上的“光阴似箭，日月如梭”</a:t>
            </a:r>
            <a:r>
              <a:rPr b="1" lang="zh-CN" sz="2400" spc="-1" strike="noStrike">
                <a:solidFill>
                  <a:srgbClr val="00b0f0"/>
                </a:solidFill>
                <a:latin typeface="楷体"/>
                <a:ea typeface="楷体"/>
              </a:rPr>
              <a:t>更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让我觉得有一种说不出的味道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云形 7"/>
          <p:cNvGrpSpPr/>
          <p:nvPr/>
        </p:nvGrpSpPr>
        <p:grpSpPr>
          <a:xfrm>
            <a:off x="5827680" y="1407960"/>
            <a:ext cx="1511280" cy="987480"/>
            <a:chOff x="5827680" y="1407960"/>
            <a:chExt cx="1511280" cy="987480"/>
          </a:xfrm>
        </p:grpSpPr>
        <p:pic>
          <p:nvPicPr>
            <p:cNvPr id="104" name="云形 7" descr=""/>
            <p:cNvPicPr/>
            <p:nvPr/>
          </p:nvPicPr>
          <p:blipFill>
            <a:blip r:embed="rId1"/>
            <a:stretch/>
          </p:blipFill>
          <p:spPr>
            <a:xfrm>
              <a:off x="5827680" y="1407960"/>
              <a:ext cx="15112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267960" y="16351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对比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云形 8"/>
          <p:cNvGrpSpPr/>
          <p:nvPr/>
        </p:nvGrpSpPr>
        <p:grpSpPr>
          <a:xfrm>
            <a:off x="7540560" y="2803680"/>
            <a:ext cx="1517760" cy="987120"/>
            <a:chOff x="7540560" y="2803680"/>
            <a:chExt cx="1517760" cy="987120"/>
          </a:xfrm>
        </p:grpSpPr>
        <p:pic>
          <p:nvPicPr>
            <p:cNvPr id="107" name="云形 8" descr=""/>
            <p:cNvPicPr/>
            <p:nvPr/>
          </p:nvPicPr>
          <p:blipFill>
            <a:blip r:embed="rId2"/>
            <a:stretch/>
          </p:blipFill>
          <p:spPr>
            <a:xfrm>
              <a:off x="7540560" y="2803680"/>
              <a:ext cx="1517760" cy="9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7982640" y="30337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引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云形 9"/>
          <p:cNvGrpSpPr/>
          <p:nvPr/>
        </p:nvGrpSpPr>
        <p:grpSpPr>
          <a:xfrm>
            <a:off x="6516720" y="4498920"/>
            <a:ext cx="2462040" cy="987480"/>
            <a:chOff x="6516720" y="4498920"/>
            <a:chExt cx="2462040" cy="987480"/>
          </a:xfrm>
        </p:grpSpPr>
        <p:pic>
          <p:nvPicPr>
            <p:cNvPr id="110" name="云形 9" descr=""/>
            <p:cNvPicPr/>
            <p:nvPr/>
          </p:nvPicPr>
          <p:blipFill>
            <a:blip r:embed="rId3"/>
            <a:stretch/>
          </p:blipFill>
          <p:spPr>
            <a:xfrm>
              <a:off x="6516720" y="4498920"/>
              <a:ext cx="24620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7214400" y="4727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心理描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2"/>
          <p:cNvSpPr/>
          <p:nvPr/>
        </p:nvSpPr>
        <p:spPr>
          <a:xfrm>
            <a:off x="735120" y="1568520"/>
            <a:ext cx="79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走在路上，我看到林鸟盘旋归窠（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kē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，它们飞得多么快啊！明天它们再飞过同样的路线，也永远不是今天的了。而明年飞过这条路的，或许不是今年的老鸟，而是小鸟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云形 1"/>
          <p:cNvGrpSpPr/>
          <p:nvPr/>
        </p:nvGrpSpPr>
        <p:grpSpPr>
          <a:xfrm>
            <a:off x="6315120" y="828720"/>
            <a:ext cx="1987560" cy="987480"/>
            <a:chOff x="6315120" y="828720"/>
            <a:chExt cx="1987560" cy="987480"/>
          </a:xfrm>
        </p:grpSpPr>
        <p:pic>
          <p:nvPicPr>
            <p:cNvPr id="114" name="云形 1" descr=""/>
            <p:cNvPicPr/>
            <p:nvPr/>
          </p:nvPicPr>
          <p:blipFill>
            <a:blip r:embed="rId1"/>
            <a:stretch/>
          </p:blipFill>
          <p:spPr>
            <a:xfrm>
              <a:off x="6315120" y="828720"/>
              <a:ext cx="19875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884640" y="1057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举例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矩形 4"/>
          <p:cNvSpPr/>
          <p:nvPr/>
        </p:nvSpPr>
        <p:spPr>
          <a:xfrm>
            <a:off x="919080" y="3749760"/>
            <a:ext cx="766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此处运用了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举例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的方法，作者以“林鸟归窠”这个事例来说明时间一去不复返，所有在时间里的事物，都不能保持原样。“我”就是在这样的看与思中感受着时间的匆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0T16:27:40Z</dcterms:modified>
  <cp:revision>44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